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CA2D-DF52-439E-BB9E-C91E7D3A5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A8A9-8599-4C0A-8A79-EF2BD42C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A662-65B0-43DD-8CB8-2A15712F8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E964-1BCB-4E52-86A5-D1787BE5B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304C-5766-4EF3-BB1B-5F548A42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BCB4-0797-4438-AAA1-EB6F8D82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D319-A565-4E23-AA2F-0BCE9E6C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7732-5E09-41B8-B6C9-DF25C1F4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D2A2-04BE-4204-B248-F457A517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7A01-16C9-4CC1-8087-775F5FBA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D64C-9938-4BF2-98EE-11BF0E12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5046-DE23-4F3B-B671-6A268BD2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7DB6-648C-4F5D-B477-E358B2CE80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рроз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оительных материа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3"/>
          <p:cNvSpPr/>
          <p:nvPr/>
        </p:nvSpPr>
        <p:spPr>
          <a:xfrm>
            <a:off x="457200" y="3808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ррозия металл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т позднелат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osi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разъедание) – это физико-химическое взаимодействие металлических материалов и окружающей сре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"/>
          <p:cNvSpPr/>
          <p:nvPr/>
        </p:nvSpPr>
        <p:spPr>
          <a:xfrm>
            <a:off x="457200" y="207252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ность металлов сопротивляться воздействию среды 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зионной стойкость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или химическим сопротивлением материа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а, в которой протекают коррозионные процессы, явля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зионной сред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металл, подвергающийся коррозии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дирующий металл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химические продукты, образующиеся в результате коррозии называю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дуктами корроз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228600" y="46692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и процессов корроз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механизму коррозионных процес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виду коррозионной ср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характеру изменения поверхности металлических материа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228600" y="2975760"/>
            <a:ext cx="8077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механизму коррозионных процесс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им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хим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04920" y="4345920"/>
            <a:ext cx="7924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виду коррозионной ср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азовая кор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396720" y="518148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тмосферная корро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7"/>
          <p:cNvSpPr/>
          <p:nvPr/>
        </p:nvSpPr>
        <p:spPr>
          <a:xfrm>
            <a:off x="394200" y="5715000"/>
            <a:ext cx="30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чвенная кор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8"/>
          <p:cNvSpPr/>
          <p:nvPr/>
        </p:nvSpPr>
        <p:spPr>
          <a:xfrm>
            <a:off x="401400" y="624852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орская кор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9"/>
          <p:cNvSpPr/>
          <p:nvPr/>
        </p:nvSpPr>
        <p:spPr>
          <a:xfrm>
            <a:off x="5955480" y="464832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иокор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0"/>
          <p:cNvSpPr/>
          <p:nvPr/>
        </p:nvSpPr>
        <p:spPr>
          <a:xfrm>
            <a:off x="5579640" y="5105520"/>
            <a:ext cx="32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нтактная корро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1"/>
          <p:cNvSpPr/>
          <p:nvPr/>
        </p:nvSpPr>
        <p:spPr>
          <a:xfrm>
            <a:off x="5196240" y="5638680"/>
            <a:ext cx="37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диационная корро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2"/>
          <p:cNvSpPr/>
          <p:nvPr/>
        </p:nvSpPr>
        <p:spPr>
          <a:xfrm>
            <a:off x="4663080" y="6172200"/>
            <a:ext cx="42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ррозия под напряж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3"/>
          <p:cNvSpPr/>
          <p:nvPr/>
        </p:nvSpPr>
        <p:spPr>
          <a:xfrm>
            <a:off x="325080" y="228600"/>
            <a:ext cx="38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ррозионная кавит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4887000" y="22860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реттинг-корро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5"/>
          <p:cNvSpPr/>
          <p:nvPr/>
        </p:nvSpPr>
        <p:spPr>
          <a:xfrm>
            <a:off x="228600" y="685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ррозионно-механическ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рушение мет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6"/>
          <p:cNvSpPr/>
          <p:nvPr/>
        </p:nvSpPr>
        <p:spPr>
          <a:xfrm>
            <a:off x="323640" y="1219320"/>
            <a:ext cx="52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ррозионная устал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еталл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0" y="21355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характеру изменения поверхности металлических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8"/>
          <p:cNvSpPr/>
          <p:nvPr/>
        </p:nvSpPr>
        <p:spPr>
          <a:xfrm>
            <a:off x="2679840" y="2895480"/>
            <a:ext cx="26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плошная корро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523880" y="3429000"/>
            <a:ext cx="5105520" cy="1371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838080" y="4876920"/>
            <a:ext cx="2514600" cy="14475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1"/>
          <p:cNvSpPr/>
          <p:nvPr/>
        </p:nvSpPr>
        <p:spPr>
          <a:xfrm>
            <a:off x="3659760" y="5257800"/>
            <a:ext cx="32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збирательная корро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715000" cy="1676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304920" y="4038480"/>
            <a:ext cx="2286000" cy="16765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5"/>
          <p:cNvSpPr/>
          <p:nvPr/>
        </p:nvSpPr>
        <p:spPr>
          <a:xfrm>
            <a:off x="2915640" y="838080"/>
            <a:ext cx="389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естная (локальная корроз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6"/>
          <p:cNvSpPr/>
          <p:nvPr/>
        </p:nvSpPr>
        <p:spPr>
          <a:xfrm>
            <a:off x="389520" y="3429000"/>
            <a:ext cx="36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дповерхностная корро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3"/>
          <a:stretch/>
        </p:blipFill>
        <p:spPr>
          <a:xfrm>
            <a:off x="4648320" y="4267080"/>
            <a:ext cx="2895480" cy="132408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9"/>
          <p:cNvSpPr/>
          <p:nvPr/>
        </p:nvSpPr>
        <p:spPr>
          <a:xfrm>
            <a:off x="4356360" y="3429000"/>
            <a:ext cx="37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ежкристаллитная корро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3"/>
          <p:cNvSpPr/>
          <p:nvPr/>
        </p:nvSpPr>
        <p:spPr>
          <a:xfrm>
            <a:off x="304920" y="4572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ая коррозия металлических материалов – это самопроизвольный окислительно-восстановительный процесс разрушения металла в окружающей среде без возникновения в системе электрического т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304920" y="20574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сидные или солевые соединения, образующиеся в результате коррозионных процессов на металлах, называются поверхностными или защитными плен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152280" y="35812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ксидные пленки на поверхности желе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укты коррозии железа называются ржавчи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2"/>
              <p:cNvSpPr txBox="1"/>
              <p:nvPr/>
            </p:nvSpPr>
            <p:spPr>
              <a:xfrm>
                <a:off x="1066680" y="4419720"/>
                <a:ext cx="556272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3Fe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2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e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процесс окисления</m:t>
                        </m:r>
                      </m:e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e</m:t>
                        </m:r>
                        <m:r>
                          <m:t xml:space="preserve">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процесс восстановления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"/>
          <p:cNvGrpSpPr/>
          <p:nvPr/>
        </p:nvGrpSpPr>
        <p:grpSpPr>
          <a:xfrm>
            <a:off x="685800" y="380880"/>
            <a:ext cx="2819520" cy="3581640"/>
            <a:chOff x="685800" y="380880"/>
            <a:chExt cx="2819520" cy="3581640"/>
          </a:xfrm>
        </p:grpSpPr>
        <p:sp>
          <p:nvSpPr>
            <p:cNvPr id="102" name="AutoShape 15"/>
            <p:cNvSpPr/>
            <p:nvPr/>
          </p:nvSpPr>
          <p:spPr>
            <a:xfrm>
              <a:off x="685800" y="380880"/>
              <a:ext cx="2819520" cy="358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4"/>
            <p:cNvSpPr/>
            <p:nvPr/>
          </p:nvSpPr>
          <p:spPr>
            <a:xfrm>
              <a:off x="685800" y="2583000"/>
              <a:ext cx="2819520" cy="125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Object 13"/>
                <p:cNvSpPr txBox="1"/>
                <p:nvPr/>
              </p:nvSpPr>
              <p:spPr>
                <a:xfrm>
                  <a:off x="2330280" y="380880"/>
                  <a:ext cx="39132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O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Object 12"/>
                <p:cNvSpPr txBox="1"/>
                <p:nvPr/>
              </p:nvSpPr>
              <p:spPr>
                <a:xfrm>
                  <a:off x="1155240" y="1953720"/>
                  <a:ext cx="52236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O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Object 11"/>
                <p:cNvSpPr txBox="1"/>
                <p:nvPr/>
              </p:nvSpPr>
              <p:spPr>
                <a:xfrm>
                  <a:off x="1625400" y="1953720"/>
                  <a:ext cx="52128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O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" name="Object 10"/>
                <p:cNvSpPr txBox="1"/>
                <p:nvPr/>
              </p:nvSpPr>
              <p:spPr>
                <a:xfrm>
                  <a:off x="2565360" y="1953720"/>
                  <a:ext cx="52020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O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08" name="Line 9"/>
            <p:cNvSpPr/>
            <p:nvPr/>
          </p:nvSpPr>
          <p:spPr>
            <a:xfrm flipH="1">
              <a:off x="1390320" y="695520"/>
              <a:ext cx="939600" cy="10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8"/>
            <p:cNvSpPr/>
            <p:nvPr/>
          </p:nvSpPr>
          <p:spPr>
            <a:xfrm flipH="1">
              <a:off x="2094840" y="1009800"/>
              <a:ext cx="312480" cy="62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7"/>
            <p:cNvSpPr/>
            <p:nvPr/>
          </p:nvSpPr>
          <p:spPr>
            <a:xfrm>
              <a:off x="2565360" y="1009800"/>
              <a:ext cx="156240" cy="62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6"/>
            <p:cNvSpPr/>
            <p:nvPr/>
          </p:nvSpPr>
          <p:spPr>
            <a:xfrm>
              <a:off x="1859760" y="3212280"/>
              <a:ext cx="9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Object 5"/>
                <p:cNvSpPr txBox="1"/>
                <p:nvPr/>
              </p:nvSpPr>
              <p:spPr>
                <a:xfrm>
                  <a:off x="919800" y="2583000"/>
                  <a:ext cx="62676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Fe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" name="Object 4"/>
                <p:cNvSpPr txBox="1"/>
                <p:nvPr/>
              </p:nvSpPr>
              <p:spPr>
                <a:xfrm>
                  <a:off x="2799360" y="2583000"/>
                  <a:ext cx="62568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Fe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14" name="Line 3"/>
            <p:cNvSpPr/>
            <p:nvPr/>
          </p:nvSpPr>
          <p:spPr>
            <a:xfrm flipH="1" flipV="1">
              <a:off x="1389960" y="2897280"/>
              <a:ext cx="469080" cy="4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"/>
            <p:cNvSpPr/>
            <p:nvPr/>
          </p:nvSpPr>
          <p:spPr>
            <a:xfrm flipV="1">
              <a:off x="2330280" y="3212280"/>
              <a:ext cx="47124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18"/>
          <p:cNvSpPr/>
          <p:nvPr/>
        </p:nvSpPr>
        <p:spPr>
          <a:xfrm>
            <a:off x="3809880" y="2863800"/>
            <a:ext cx="53341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~100 : 10 :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28600" y="412452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чина коррозии –  термодинамическая неустойчивость системы, состоящей из металла и компонентов коррозион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Мерой термодинамической неустойчивости является свободная энергия Гиббса, освобождаемая при взаимодействии металла с этими компонентами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304920" y="617040"/>
            <a:ext cx="8305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лияние температуры на скорость корроз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 увеличением температуры  скорость коррозии возрастает. Колебания температуры при нагреве металла, попеременные нагрев и охлаждение увеличивают скорость окисления метал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оксидной пленке возникают термические напряжения, образуются трещины и она начинает отслаиваться от метал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304920" y="2828160"/>
            <a:ext cx="8305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лияние давления на скорость корроз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парциальное давление окислителя ниже давления диссоциации образующегося соединения, то термодинамическое окисление металла прекращ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окисление металла лимитируется химической реакцией, то скорость коррозии увеличивается пропорционально корню квадратному от величины давления кислород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5"/>
          <p:cNvSpPr/>
          <p:nvPr/>
        </p:nvSpPr>
        <p:spPr>
          <a:xfrm>
            <a:off x="228600" y="525780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лияние состава газа на скорость корроз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грязнение воздуха углекислым газом, диоксидом серы, парами воды вызывает повышение скорости газовой корроз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"/>
          <p:cNvSpPr/>
          <p:nvPr/>
        </p:nvSpPr>
        <p:spPr>
          <a:xfrm>
            <a:off x="380880" y="210960"/>
            <a:ext cx="8382240" cy="34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химическая коррозия возникает в присутствии электролита вследствие перехода электронов от одних участков металла к другим. При этом протекают два сопряженных процесса: переход металла в раствор (окислительный или анодный процесс) и переход этих ионов из раствора с выделением их на поверхности метал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 восстановительный или катодный процес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↔ M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m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228600" y="3970080"/>
            <a:ext cx="868680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ханизм электрохимической корроз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ывается на концепции локальных элементов, т.е. особых гальванических пар микроскопических или же макроскопических, совокупная деятельность которых приводит к коррозионному разрушению метал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0" y="312480"/>
            <a:ext cx="899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кроскопические гальванические пары возникают при контакте двух металлов различной активности с электролитом. Электроны переходят от более активного металла к менее активному, и более активный металл разруш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163800" y="2330640"/>
            <a:ext cx="45363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– 0,44 В, Е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0,337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181480" y="2743200"/>
            <a:ext cx="3505320" cy="3276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304920" y="289656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-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│Н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+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457200" y="3528720"/>
            <a:ext cx="4267080" cy="31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од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 е →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тод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2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е →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в молекулярной фор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 НС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Cl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↑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228600" y="610920"/>
            <a:ext cx="8686800" cy="54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одородная деполяриз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арактерна для растворов с высокой активностью ионов водорода, т.е. для растворов кислот. Акцепторами электронов являются ионы водор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рН&lt; 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тоде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2 е →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е → 1/2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рН ≥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кцепторами электронов являются молекулы вод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тоде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+2 е →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2 О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Коррозия мет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Химическая корро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Электрохимическая корро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Методы защиты от корроз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Коррозия неметаллических строитель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Особенности коррозии стальной арм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838080" y="502560"/>
            <a:ext cx="7925040" cy="62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ислородная деполяриз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характерна для металлов, которые находятся в атмосфере и соприкасаются с водой и растворами солей. Акцептором электронов в этих случаях является растворенный в электролите кислор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створах при рН&lt; 7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тоде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4 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4е → 2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рН ≥ 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тоде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+  4е →4 О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од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 е →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тод: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+  4е →4 О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2О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→4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304920" y="475560"/>
            <a:ext cx="8305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зависимо от условий протекания процессов, процесс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одного окисления включае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ледующие стад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9836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ход электронов с анодного участка на катодный; роль анода всегда выполняет более активный метал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9836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мещение ионов в электролитических проводящих сред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оцесс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тодного восстановл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восстанавливаются атомы, ионы, молекулы, способные принимать элект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4"/>
          <p:cNvSpPr/>
          <p:nvPr/>
        </p:nvSpPr>
        <p:spPr>
          <a:xfrm>
            <a:off x="228600" y="49528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крогальванопары возникают при соприкосновении металла с электролитом (электролитом может быть влага, адсорбируемая из воздух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"/>
          <p:cNvGrpSpPr/>
          <p:nvPr/>
        </p:nvGrpSpPr>
        <p:grpSpPr>
          <a:xfrm>
            <a:off x="2743200" y="2286000"/>
            <a:ext cx="3504960" cy="2971800"/>
            <a:chOff x="2743200" y="2286000"/>
            <a:chExt cx="3504960" cy="2971800"/>
          </a:xfrm>
        </p:grpSpPr>
        <p:sp>
          <p:nvSpPr>
            <p:cNvPr id="134" name="AutoShape 18"/>
            <p:cNvSpPr/>
            <p:nvPr/>
          </p:nvSpPr>
          <p:spPr>
            <a:xfrm>
              <a:off x="2895480" y="2286000"/>
              <a:ext cx="3352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3072240" y="4465440"/>
              <a:ext cx="299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6"/>
            <p:cNvSpPr/>
            <p:nvPr/>
          </p:nvSpPr>
          <p:spPr>
            <a:xfrm>
              <a:off x="3424680" y="3474720"/>
              <a:ext cx="1941480" cy="138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5"/>
            <p:cNvSpPr/>
            <p:nvPr/>
          </p:nvSpPr>
          <p:spPr>
            <a:xfrm>
              <a:off x="2743200" y="4465440"/>
              <a:ext cx="2975400" cy="792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атод 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анод    като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етал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4"/>
            <p:cNvSpPr/>
            <p:nvPr/>
          </p:nvSpPr>
          <p:spPr>
            <a:xfrm>
              <a:off x="3424680" y="4465440"/>
              <a:ext cx="2293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3"/>
            <p:cNvSpPr/>
            <p:nvPr/>
          </p:nvSpPr>
          <p:spPr>
            <a:xfrm>
              <a:off x="3249000" y="3672720"/>
              <a:ext cx="352080" cy="59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2"/>
            <p:cNvSpPr/>
            <p:nvPr/>
          </p:nvSpPr>
          <p:spPr>
            <a:xfrm>
              <a:off x="3424680" y="3474720"/>
              <a:ext cx="35316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1"/>
            <p:cNvSpPr/>
            <p:nvPr/>
          </p:nvSpPr>
          <p:spPr>
            <a:xfrm flipH="1">
              <a:off x="5189400" y="3672720"/>
              <a:ext cx="176400" cy="59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0"/>
            <p:cNvSpPr/>
            <p:nvPr/>
          </p:nvSpPr>
          <p:spPr>
            <a:xfrm flipH="1">
              <a:off x="5012640" y="3276720"/>
              <a:ext cx="1764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>
              <a:off x="4483800" y="3276720"/>
              <a:ext cx="72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>
              <a:off x="4660200" y="327672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7"/>
            <p:cNvSpPr/>
            <p:nvPr/>
          </p:nvSpPr>
          <p:spPr>
            <a:xfrm>
              <a:off x="4307040" y="32767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6"/>
            <p:cNvSpPr/>
            <p:nvPr/>
          </p:nvSpPr>
          <p:spPr>
            <a:xfrm>
              <a:off x="4307040" y="327672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5"/>
            <p:cNvSpPr/>
            <p:nvPr/>
          </p:nvSpPr>
          <p:spPr>
            <a:xfrm>
              <a:off x="4952880" y="3124440"/>
              <a:ext cx="942120" cy="269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</a:t>
              </a:r>
              <a:r>
                <a:rPr b="0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4"/>
            <p:cNvSpPr/>
            <p:nvPr/>
          </p:nvSpPr>
          <p:spPr>
            <a:xfrm>
              <a:off x="4130280" y="2484000"/>
              <a:ext cx="882360" cy="674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</a:t>
              </a:r>
              <a:r>
                <a:rPr b="0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3"/>
            <p:cNvSpPr/>
            <p:nvPr/>
          </p:nvSpPr>
          <p:spPr>
            <a:xfrm>
              <a:off x="2895480" y="2880360"/>
              <a:ext cx="705600" cy="711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</a:t>
              </a:r>
              <a:r>
                <a:rPr b="0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2"/>
            <p:cNvSpPr/>
            <p:nvPr/>
          </p:nvSpPr>
          <p:spPr>
            <a:xfrm>
              <a:off x="4660200" y="2286000"/>
              <a:ext cx="1587960" cy="711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апля вод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25"/>
          <p:cNvSpPr/>
          <p:nvPr/>
        </p:nvSpPr>
        <p:spPr>
          <a:xfrm>
            <a:off x="380880" y="698760"/>
            <a:ext cx="82296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е →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в кислой сред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4е → 40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(в нейтральной  среде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990720" y="2438280"/>
          <a:ext cx="7848360" cy="4326120"/>
        </p:xfrm>
        <a:graphic>
          <a:graphicData uri="http://schemas.openxmlformats.org/drawingml/2006/table">
            <a:tbl>
              <a:tblPr/>
              <a:tblGrid>
                <a:gridCol w="3398760"/>
                <a:gridCol w="3448080"/>
                <a:gridCol w="1001520"/>
              </a:tblGrid>
              <a:tr h="6699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 стойк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коррозии металла,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м/го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енно 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0,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ма 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001 до 0,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005 до 0,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01 до 0,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05 до 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иженно-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1 до 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5 до 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,0 до 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5,0 до 1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1"/>
          <p:cNvSpPr/>
          <p:nvPr/>
        </p:nvSpPr>
        <p:spPr>
          <a:xfrm>
            <a:off x="152280" y="69228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рость электрохимической коррозии представляет суммарную силу тока всех коррозионных пар, функционирующих на поверхности метал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практических целей применяют условную десятибалльную шкалу коррозионной стой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2362320" y="990720"/>
            <a:ext cx="5790600" cy="3580920"/>
            <a:chOff x="2362320" y="990720"/>
            <a:chExt cx="5790600" cy="3580920"/>
          </a:xfrm>
        </p:grpSpPr>
        <p:sp>
          <p:nvSpPr>
            <p:cNvPr id="156" name="AutoShape 21"/>
            <p:cNvSpPr/>
            <p:nvPr/>
          </p:nvSpPr>
          <p:spPr>
            <a:xfrm>
              <a:off x="2445840" y="1066680"/>
              <a:ext cx="5401080" cy="35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0"/>
            <p:cNvSpPr/>
            <p:nvPr/>
          </p:nvSpPr>
          <p:spPr>
            <a:xfrm>
              <a:off x="3205440" y="1165680"/>
              <a:ext cx="0" cy="26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9"/>
            <p:cNvSpPr/>
            <p:nvPr/>
          </p:nvSpPr>
          <p:spPr>
            <a:xfrm>
              <a:off x="3205440" y="3794760"/>
              <a:ext cx="303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8"/>
            <p:cNvSpPr/>
            <p:nvPr/>
          </p:nvSpPr>
          <p:spPr>
            <a:xfrm>
              <a:off x="3205440" y="3268800"/>
              <a:ext cx="3038400" cy="525600"/>
            </a:xfrm>
            <a:prstGeom prst="rect">
              <a:avLst/>
            </a:prstGeom>
            <a:solidFill>
              <a:srgbClr val="c0c0c0">
                <a:alpha val="6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3205440" y="1866600"/>
              <a:ext cx="2869560" cy="350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6"/>
            <p:cNvSpPr/>
            <p:nvPr/>
          </p:nvSpPr>
          <p:spPr>
            <a:xfrm>
              <a:off x="3205440" y="1341000"/>
              <a:ext cx="27010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5"/>
            <p:cNvSpPr/>
            <p:nvPr/>
          </p:nvSpPr>
          <p:spPr>
            <a:xfrm>
              <a:off x="4218840" y="2392560"/>
              <a:ext cx="3094920" cy="700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ассивное состоя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4"/>
            <p:cNvSpPr/>
            <p:nvPr/>
          </p:nvSpPr>
          <p:spPr>
            <a:xfrm>
              <a:off x="2433240" y="990720"/>
              <a:ext cx="577800" cy="525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3"/>
            <p:cNvSpPr/>
            <p:nvPr/>
          </p:nvSpPr>
          <p:spPr>
            <a:xfrm>
              <a:off x="2362320" y="1866600"/>
              <a:ext cx="745920" cy="525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Е</a:t>
              </a:r>
              <a:r>
                <a:rPr b="0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пас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rc 12"/>
            <p:cNvSpPr/>
            <p:nvPr/>
          </p:nvSpPr>
          <p:spPr>
            <a:xfrm flipH="1" flipV="1">
              <a:off x="4049640" y="3268080"/>
              <a:ext cx="1350000" cy="35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1"/>
            <p:cNvSpPr/>
            <p:nvPr/>
          </p:nvSpPr>
          <p:spPr>
            <a:xfrm flipV="1">
              <a:off x="4049640" y="2041920"/>
              <a:ext cx="168840" cy="12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0"/>
            <p:cNvSpPr/>
            <p:nvPr/>
          </p:nvSpPr>
          <p:spPr>
            <a:xfrm flipV="1">
              <a:off x="4218840" y="1866240"/>
              <a:ext cx="1012680" cy="17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9"/>
            <p:cNvSpPr/>
            <p:nvPr/>
          </p:nvSpPr>
          <p:spPr>
            <a:xfrm flipH="1" flipV="1">
              <a:off x="4049640" y="1515960"/>
              <a:ext cx="843840" cy="17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rc 8"/>
            <p:cNvSpPr/>
            <p:nvPr/>
          </p:nvSpPr>
          <p:spPr>
            <a:xfrm>
              <a:off x="4627800" y="1691640"/>
              <a:ext cx="669240" cy="1383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7"/>
            <p:cNvSpPr/>
            <p:nvPr/>
          </p:nvSpPr>
          <p:spPr>
            <a:xfrm>
              <a:off x="5400000" y="1341000"/>
              <a:ext cx="2752920" cy="525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ктивное состоя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6"/>
            <p:cNvSpPr/>
            <p:nvPr/>
          </p:nvSpPr>
          <p:spPr>
            <a:xfrm>
              <a:off x="6248160" y="1676160"/>
              <a:ext cx="1877760" cy="609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ереходная обла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5977800" y="3268800"/>
              <a:ext cx="2007000" cy="700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рушение пассив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4"/>
            <p:cNvSpPr/>
            <p:nvPr/>
          </p:nvSpPr>
          <p:spPr>
            <a:xfrm>
              <a:off x="3106800" y="3970800"/>
              <a:ext cx="4401360" cy="482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Логарифм скорости раствор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30"/>
          <p:cNvSpPr/>
          <p:nvPr/>
        </p:nvSpPr>
        <p:spPr>
          <a:xfrm>
            <a:off x="304920" y="533844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рость процесса растворения металла в области пассивации становится очень малой и может сохраняться сколь угодно дол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304920" y="85680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ы защиты металлических материалов от корроз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ние коррозионностойких материа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ование защитных поверхностных покрытий метал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нение состава агрессивной ср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химические мет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80880" y="491760"/>
            <a:ext cx="8458200" cy="53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р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устойчив к питтинговой коррозии, обладает высокой пассивацией в средах различной кислотности, что связано с образование оксид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Основной недостаток хромистых сталей – склонность к хрупкому разру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ике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образует с железом ряд твердых растворов. Пассивное состояние связано с образованием оксид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i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идроксид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Введение никеля повышает механические свойства ст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введенная в стали повышает их стойкость в минеральных кисло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рганец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ышает устойчивость к высокотемпературному окислению в средах, содержащих сернистые соеди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"/>
          <p:cNvSpPr/>
          <p:nvPr/>
        </p:nvSpPr>
        <p:spPr>
          <a:xfrm>
            <a:off x="228600" y="196920"/>
            <a:ext cx="5257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Al + 2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3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4AlO(O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533520" y="577800"/>
            <a:ext cx="44193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+ 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O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H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) + 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04920" y="1209960"/>
            <a:ext cx="8305560" cy="321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стадия – растворение в щелочи амфотерной оксидной плен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2NaOH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Н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 → 2Na[Al(OH)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 стадия – взаимодействие металла с вод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+ 6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H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+ 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 стадия – растворение образовавшейся гидроксидной пленки в растворе щело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)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NaOH → 2Na[Al(OH)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228600" y="457848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 защитным поверхностным покрытиям относятся неорганические защитные пленки (фосфатные, оксидные), гальванопокрытия, органические изолирующие покрытия (лакокрасочные, эпоксидные, полиуретановы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3"/>
          <p:cNvSpPr/>
          <p:nvPr/>
        </p:nvSpPr>
        <p:spPr>
          <a:xfrm>
            <a:off x="152280" y="228600"/>
            <a:ext cx="899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текторная защи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меняется в тех случаях, когда защищаемая конструкция находится в среде электроли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1219320" y="1026360"/>
            <a:ext cx="5486400" cy="1779120"/>
            <a:chOff x="1219320" y="1026360"/>
            <a:chExt cx="5486400" cy="1779120"/>
          </a:xfrm>
        </p:grpSpPr>
        <p:sp>
          <p:nvSpPr>
            <p:cNvPr id="184" name="AutoShape 21"/>
            <p:cNvSpPr/>
            <p:nvPr/>
          </p:nvSpPr>
          <p:spPr>
            <a:xfrm>
              <a:off x="1219320" y="1295280"/>
              <a:ext cx="5486400" cy="1486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20"/>
            <p:cNvSpPr/>
            <p:nvPr/>
          </p:nvSpPr>
          <p:spPr>
            <a:xfrm rot="13803600">
              <a:off x="2658240" y="725040"/>
              <a:ext cx="326880" cy="2381040"/>
            </a:xfrm>
            <a:prstGeom prst="can">
              <a:avLst>
                <a:gd name="adj" fmla="val 1543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9"/>
            <p:cNvSpPr/>
            <p:nvPr/>
          </p:nvSpPr>
          <p:spPr>
            <a:xfrm>
              <a:off x="4305960" y="2209680"/>
              <a:ext cx="205560" cy="228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8"/>
            <p:cNvSpPr/>
            <p:nvPr/>
          </p:nvSpPr>
          <p:spPr>
            <a:xfrm>
              <a:off x="3071520" y="1981080"/>
              <a:ext cx="1441440" cy="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7"/>
            <p:cNvSpPr/>
            <p:nvPr/>
          </p:nvSpPr>
          <p:spPr>
            <a:xfrm>
              <a:off x="4511880" y="1981080"/>
              <a:ext cx="108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6"/>
            <p:cNvSpPr/>
            <p:nvPr/>
          </p:nvSpPr>
          <p:spPr>
            <a:xfrm>
              <a:off x="1219320" y="1523880"/>
              <a:ext cx="10292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труб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5"/>
            <p:cNvSpPr/>
            <p:nvPr/>
          </p:nvSpPr>
          <p:spPr>
            <a:xfrm>
              <a:off x="1837440" y="1752480"/>
              <a:ext cx="4107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4"/>
            <p:cNvSpPr/>
            <p:nvPr/>
          </p:nvSpPr>
          <p:spPr>
            <a:xfrm>
              <a:off x="4924080" y="220968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3"/>
            <p:cNvSpPr/>
            <p:nvPr/>
          </p:nvSpPr>
          <p:spPr>
            <a:xfrm>
              <a:off x="3894840" y="220968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2"/>
            <p:cNvSpPr/>
            <p:nvPr/>
          </p:nvSpPr>
          <p:spPr>
            <a:xfrm>
              <a:off x="3894840" y="2552760"/>
              <a:ext cx="102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1"/>
            <p:cNvSpPr/>
            <p:nvPr/>
          </p:nvSpPr>
          <p:spPr>
            <a:xfrm>
              <a:off x="4924080" y="2209680"/>
              <a:ext cx="20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0"/>
            <p:cNvSpPr/>
            <p:nvPr/>
          </p:nvSpPr>
          <p:spPr>
            <a:xfrm flipH="1">
              <a:off x="3688920" y="2209680"/>
              <a:ext cx="2059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"/>
            <p:cNvSpPr/>
            <p:nvPr/>
          </p:nvSpPr>
          <p:spPr>
            <a:xfrm flipH="1">
              <a:off x="3894840" y="2324160"/>
              <a:ext cx="411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8"/>
            <p:cNvSpPr/>
            <p:nvPr/>
          </p:nvSpPr>
          <p:spPr>
            <a:xfrm flipH="1">
              <a:off x="4100400" y="2438280"/>
              <a:ext cx="20484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7"/>
            <p:cNvSpPr/>
            <p:nvPr/>
          </p:nvSpPr>
          <p:spPr>
            <a:xfrm>
              <a:off x="4511880" y="2438280"/>
              <a:ext cx="2059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6"/>
            <p:cNvSpPr/>
            <p:nvPr/>
          </p:nvSpPr>
          <p:spPr>
            <a:xfrm>
              <a:off x="4511880" y="2324160"/>
              <a:ext cx="4118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5"/>
            <p:cNvSpPr/>
            <p:nvPr/>
          </p:nvSpPr>
          <p:spPr>
            <a:xfrm>
              <a:off x="4511880" y="2209680"/>
              <a:ext cx="4118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4"/>
            <p:cNvSpPr/>
            <p:nvPr/>
          </p:nvSpPr>
          <p:spPr>
            <a:xfrm flipH="1">
              <a:off x="3894840" y="2209680"/>
              <a:ext cx="411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3"/>
            <p:cNvSpPr/>
            <p:nvPr/>
          </p:nvSpPr>
          <p:spPr>
            <a:xfrm>
              <a:off x="5129280" y="2438280"/>
              <a:ext cx="1576080" cy="29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отект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"/>
            <p:cNvSpPr/>
            <p:nvPr/>
          </p:nvSpPr>
          <p:spPr>
            <a:xfrm flipH="1" flipV="1">
              <a:off x="4511880" y="2437920"/>
              <a:ext cx="8229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25"/>
          <p:cNvGrpSpPr/>
          <p:nvPr/>
        </p:nvGrpSpPr>
        <p:grpSpPr>
          <a:xfrm>
            <a:off x="2743200" y="4104000"/>
            <a:ext cx="6400800" cy="1872720"/>
            <a:chOff x="2743200" y="4104000"/>
            <a:chExt cx="6400800" cy="1872720"/>
          </a:xfrm>
        </p:grpSpPr>
        <p:sp>
          <p:nvSpPr>
            <p:cNvPr id="206" name="AutoShape 41"/>
            <p:cNvSpPr/>
            <p:nvPr/>
          </p:nvSpPr>
          <p:spPr>
            <a:xfrm>
              <a:off x="2743200" y="4191120"/>
              <a:ext cx="6400800" cy="16002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40"/>
            <p:cNvSpPr/>
            <p:nvPr/>
          </p:nvSpPr>
          <p:spPr>
            <a:xfrm rot="13803600">
              <a:off x="4279680" y="3777120"/>
              <a:ext cx="326880" cy="2526480"/>
            </a:xfrm>
            <a:prstGeom prst="can">
              <a:avLst>
                <a:gd name="adj" fmla="val 1543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39"/>
            <p:cNvSpPr/>
            <p:nvPr/>
          </p:nvSpPr>
          <p:spPr>
            <a:xfrm>
              <a:off x="7547760" y="5334120"/>
              <a:ext cx="218520" cy="228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8"/>
            <p:cNvSpPr/>
            <p:nvPr/>
          </p:nvSpPr>
          <p:spPr>
            <a:xfrm>
              <a:off x="6238080" y="4991400"/>
              <a:ext cx="735840" cy="228600"/>
            </a:xfrm>
            <a:prstGeom prst="rect">
              <a:avLst/>
            </a:prstGeom>
            <a:solidFill>
              <a:srgbClr val="ffffff"/>
            </a:solidFill>
            <a:ln w="7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37"/>
            <p:cNvSpPr/>
            <p:nvPr/>
          </p:nvSpPr>
          <p:spPr>
            <a:xfrm>
              <a:off x="4708440" y="5105520"/>
              <a:ext cx="1529280" cy="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36"/>
            <p:cNvSpPr/>
            <p:nvPr/>
          </p:nvSpPr>
          <p:spPr>
            <a:xfrm>
              <a:off x="6892920" y="5105520"/>
              <a:ext cx="65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35"/>
            <p:cNvSpPr/>
            <p:nvPr/>
          </p:nvSpPr>
          <p:spPr>
            <a:xfrm>
              <a:off x="7547760" y="51055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34"/>
            <p:cNvSpPr/>
            <p:nvPr/>
          </p:nvSpPr>
          <p:spPr>
            <a:xfrm flipV="1">
              <a:off x="6455520" y="441936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3"/>
            <p:cNvSpPr/>
            <p:nvPr/>
          </p:nvSpPr>
          <p:spPr>
            <a:xfrm flipV="1">
              <a:off x="6674040" y="45338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32"/>
            <p:cNvSpPr/>
            <p:nvPr/>
          </p:nvSpPr>
          <p:spPr>
            <a:xfrm>
              <a:off x="6455520" y="4419720"/>
              <a:ext cx="87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31"/>
            <p:cNvSpPr/>
            <p:nvPr/>
          </p:nvSpPr>
          <p:spPr>
            <a:xfrm>
              <a:off x="6674040" y="4533840"/>
              <a:ext cx="43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30"/>
            <p:cNvSpPr/>
            <p:nvPr/>
          </p:nvSpPr>
          <p:spPr>
            <a:xfrm>
              <a:off x="2819520" y="4648320"/>
              <a:ext cx="10918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труб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9"/>
            <p:cNvSpPr/>
            <p:nvPr/>
          </p:nvSpPr>
          <p:spPr>
            <a:xfrm>
              <a:off x="7909560" y="5409720"/>
              <a:ext cx="1234080" cy="30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етал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8"/>
            <p:cNvSpPr/>
            <p:nvPr/>
          </p:nvSpPr>
          <p:spPr>
            <a:xfrm>
              <a:off x="7036200" y="4266720"/>
              <a:ext cx="1452600" cy="30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 се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7"/>
            <p:cNvSpPr/>
            <p:nvPr/>
          </p:nvSpPr>
          <p:spPr>
            <a:xfrm>
              <a:off x="3399120" y="4876920"/>
              <a:ext cx="43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6"/>
            <p:cNvSpPr/>
            <p:nvPr/>
          </p:nvSpPr>
          <p:spPr>
            <a:xfrm flipH="1" flipV="1">
              <a:off x="7765920" y="5448240"/>
              <a:ext cx="4359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Прямоугольник 44"/>
          <p:cNvSpPr/>
          <p:nvPr/>
        </p:nvSpPr>
        <p:spPr>
          <a:xfrm>
            <a:off x="2417760" y="3244680"/>
            <a:ext cx="57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катодной защиты трубопро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3505320" cy="160020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5"/>
          <p:cNvSpPr/>
          <p:nvPr/>
        </p:nvSpPr>
        <p:spPr>
          <a:xfrm>
            <a:off x="4059360" y="914400"/>
            <a:ext cx="46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дренажной защиты тр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228600" y="3104640"/>
            <a:ext cx="853452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81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зия первого вида или коррозия выщелачивани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которые водные растворы солей и вода с малой жесткостью способны растворять цементный камень, не вступая с ним в химическое взаимодействие. Образующиеся растворенные компоненты цементного камня (например, Са(ОН)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выносятся во внешнюю среду, делая его пористым и менее проч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533520" y="6840"/>
            <a:ext cx="8305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зионный мониторинг включает четыре основных 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на стадии проектир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на стадии изготов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во время эксплуат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в период ренов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80880" y="2678760"/>
            <a:ext cx="8305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ое химическое свойство всех металл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восстановительная активность. Металлы сравнительно легко отдают валентные электроны, превращаясь в положительные ионы (катион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 –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↔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томы металлов не присоединяют электронов и не образуют отрицательно заряженных ионов (анион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"/>
          <p:cNvSpPr/>
          <p:nvPr/>
        </p:nvSpPr>
        <p:spPr>
          <a:xfrm>
            <a:off x="304920" y="200160"/>
            <a:ext cx="88390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сс гидролиза в упрощенном вид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(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О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A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+ 6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О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2 A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∙3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28600" y="275832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Коррозия второго ви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ссы коррозионного разрушения связаны с химическим взаимодействием цементного камня и агрессивных компоне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езультате происходит образование легко растворимых продуктов, выносимых из бетона во внешнюю среду, или аморфных веществ, не обладающих вяжущими свойствами и не способных препятствовать дальнейшему развитию корро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3"/>
          <p:cNvSpPr/>
          <p:nvPr/>
        </p:nvSpPr>
        <p:spPr>
          <a:xfrm>
            <a:off x="380880" y="2286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слотная корроз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язана с взаимодействием гидроксида кальция с кислотами (р. нейтрализаци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4"/>
          <p:cNvSpPr/>
          <p:nvPr/>
        </p:nvSpPr>
        <p:spPr>
          <a:xfrm>
            <a:off x="685800" y="1143000"/>
            <a:ext cx="822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а(ОН)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+2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OH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О)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"/>
          <p:cNvSpPr/>
          <p:nvPr/>
        </p:nvSpPr>
        <p:spPr>
          <a:xfrm>
            <a:off x="685800" y="1720800"/>
            <a:ext cx="64771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(OH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H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→ Ca(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448920" y="2330640"/>
            <a:ext cx="60631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F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Si0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3CaF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4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7"/>
          <p:cNvSpPr/>
          <p:nvPr/>
        </p:nvSpPr>
        <p:spPr>
          <a:xfrm>
            <a:off x="1140480" y="2819520"/>
            <a:ext cx="42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лекислотная корроз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592200" y="3291480"/>
            <a:ext cx="4801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= Са(Н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Са(Н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9"/>
          <p:cNvSpPr/>
          <p:nvPr/>
        </p:nvSpPr>
        <p:spPr>
          <a:xfrm>
            <a:off x="380880" y="5105520"/>
            <a:ext cx="815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йствие  органических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ческие вещества природных вод в основном представлены гуминовыми, гумусовыми кислотами и их сол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"/>
          <p:cNvSpPr/>
          <p:nvPr/>
        </p:nvSpPr>
        <p:spPr>
          <a:xfrm>
            <a:off x="228600" y="38736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ействие солей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данного вида коррозии наиболее характерны обменные реакции. Скорость коррозии зависит, как от состава этих солей, так и от продуктов их взаимо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380880" y="2146320"/>
            <a:ext cx="83822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H 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H +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Н</a:t>
            </a:r>
            <a:r>
              <a:rPr b="0" i="1" lang="pt-BR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+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Н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398880" y="3168720"/>
            <a:ext cx="7930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 Ca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4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2 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304920" y="3708720"/>
            <a:ext cx="883908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гнезиальная корроз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заимодействие солей магния с компонентами цементного камня характеризуется тем, что в результате образуется  практически нерастворимый гидроксид маг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g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2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 Mg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↓+ Ca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986040" y="5835600"/>
            <a:ext cx="5508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gCl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Cl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g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3"/>
          <p:cNvSpPr/>
          <p:nvPr/>
        </p:nvSpPr>
        <p:spPr>
          <a:xfrm>
            <a:off x="304920" y="3808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йствие газообразных вещест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роцессы коррозии бетона зависят от природы  и  химической активности этих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"/>
          <p:cNvSpPr/>
          <p:nvPr/>
        </p:nvSpPr>
        <p:spPr>
          <a:xfrm>
            <a:off x="304920" y="1841760"/>
            <a:ext cx="8610480" cy="9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С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2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668160" y="3016440"/>
            <a:ext cx="4469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Са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↓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228600" y="381960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Коррозия третьего ви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т вид коррозии связан с накоплением и действием новообразований в порах и капиллярах бетона. При заполнении таких пространств в толще бетона может возникать внутреннее напряжение, которое приводит к разру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380880" y="482760"/>
            <a:ext cx="8458200" cy="35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ульфатная корроз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взаимодействии растворенного гипса с трехкальциевым гидроалюминатом образуется трудно растворимый, обладающий большой гигроскопичностью гидросульфоалюминат кальция. Поглощая большое количество воды, он значительно увеличивается в объеме (~ в 2,5 раз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О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A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6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3Ca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n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СаО∙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 31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5"/>
          <p:cNvSpPr/>
          <p:nvPr/>
        </p:nvSpPr>
        <p:spPr>
          <a:xfrm>
            <a:off x="996480" y="4038480"/>
            <a:ext cx="35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Щелочная корроз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304920" y="45054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модинамика коррозии строительных материалов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произвольно будут протекать те процессы, которые сопровождаются образованием более стойких веществ (с более отрицательными значениями энтальпии образования) по сравнению с исход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"/>
          <p:cNvSpPr/>
          <p:nvPr/>
        </p:nvSpPr>
        <p:spPr>
          <a:xfrm>
            <a:off x="304920" y="349200"/>
            <a:ext cx="86104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F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Са 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2CaF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 + Si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кратир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4"/>
          <p:cNvSpPr/>
          <p:nvPr/>
        </p:nvSpPr>
        <p:spPr>
          <a:xfrm>
            <a:off x="457200" y="9907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люатированием — обработка поверхности бетона водными растворами кремнефтористоводородной кисло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228600" y="2245680"/>
            <a:ext cx="8305920" cy="36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Са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изведение растворимости для СаСО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стандартных условиях составляет  4,8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а для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,2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т.е растворимость карбоната кальция гораздо меньше растворимости гидроксида каль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ведение гидравлических добавок повышает прочность цементного камн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Si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(n-1)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= CaO∙Si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"/>
          <p:cNvSpPr/>
          <p:nvPr/>
        </p:nvSpPr>
        <p:spPr>
          <a:xfrm>
            <a:off x="304920" y="199080"/>
            <a:ext cx="8839080" cy="58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исутствии хлора деполяризация катода происходит в основном за счет реакции восстановления хлора, а не кислор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½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l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Cl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φ = 1,36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воде хлор гидролизуется с образованием хлороводородной и хлорноватистой кисло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 HCl + HC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лорноватистая кислота является более сильным окислител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ClO + H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;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φ</a:t>
            </a:r>
            <a:r>
              <a:rPr b="0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1,63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ClO + H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Cl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;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φ</a:t>
            </a:r>
            <a:r>
              <a:rPr b="0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1,49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457200" y="723960"/>
            <a:ext cx="8458200" cy="40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4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Φ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рН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=3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 0,28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2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S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Φ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рН=3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 0,235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взаимодействии сернистого газа с железом образуется сульфид и гидроксид желез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  +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FeS↓+ 2 Fe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"/>
          <p:cNvSpPr/>
          <p:nvPr/>
        </p:nvSpPr>
        <p:spPr>
          <a:xfrm>
            <a:off x="838080" y="350280"/>
            <a:ext cx="7162920" cy="53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ример 1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ой стержень из меди 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+ 0,3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ли кадмия 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–0,40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будет вытеснять олово из 1М раствор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Cl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Напишите уравнения вытеснения олова из раствора в молекулярном и ионно-молекулярном ви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0,1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равним стандартные электродные потенциалы металлов: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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медь является окислителем по отношению к олову и не может вытеснять его из растворов;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следовательно, кадмий – восстановитель по отношению к олову и будет вытеснять его из раствор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я вытеснения запишется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молекулярном вид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Cl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+   Cd   </a:t>
            </a:r>
            <a:r>
              <a:rPr b="0" lang="ru-RU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   +   CdCl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ионно-молекулярном ви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+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609480" y="476640"/>
            <a:ext cx="7467840" cy="56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ример 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Составьте уравнения электродных процессов, происходящих при коррозии медно-цинкового сплава в растворе кислоты при рН = 3, Т = 298К А) с водородной деполяризацией  Б) с кислородной деполяризаци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Реше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Сравним стандартные потенциалы металлов: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,33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-0,76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, анодом будет цинк, катодом –мед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дные проце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дная реакция:     (-) 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одные реакции:(+) К 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дородная деполяр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ислородная деполяр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рная реак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с водородной деполяризаци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n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Б) с кислородной деполяризацие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n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3"/>
          <p:cNvSpPr/>
          <p:nvPr/>
        </p:nvSpPr>
        <p:spPr>
          <a:xfrm>
            <a:off x="471600" y="380880"/>
            <a:ext cx="31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ическая аллотроп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533520" y="914400"/>
            <a:ext cx="82296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температурах ниже 91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образуется  α- железо     с объемно-центрированной кубической решетк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температурах 910 – 140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 -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железо     с гранецентрированной кубической решетк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"/>
          <p:cNvSpPr/>
          <p:nvPr/>
        </p:nvSpPr>
        <p:spPr>
          <a:xfrm>
            <a:off x="228600" y="28231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днородные сплав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твердые растворы металлов, интерметаллические соединения, твердые растворы интерметаллидов в металлах или друг в дру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28600" y="40392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аллы – проводники первого род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304920" y="228600"/>
          <a:ext cx="7924680" cy="6400800"/>
        </p:xfrm>
        <a:graphic>
          <a:graphicData uri="http://schemas.openxmlformats.org/drawingml/2006/table">
            <a:tbl>
              <a:tblPr/>
              <a:tblGrid>
                <a:gridCol w="2743200"/>
                <a:gridCol w="3352680"/>
                <a:gridCol w="1828800"/>
              </a:tblGrid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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 + 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9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+ + 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9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7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3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Z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3+ + 3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+ + 1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3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3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.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H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H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.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.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3276720" cy="3276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4419720" y="168156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войной электрический слой на границе раздела активный металл - раст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304920" y="4006800"/>
            <a:ext cx="50292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27400" y="4768920"/>
            <a:ext cx="46198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m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ne →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m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609480" y="5379840"/>
            <a:ext cx="82296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↔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 ↔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3124080" cy="30481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3962520" y="15238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ойной электрический слой на границе раздела малоактивный металл - раст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28600" y="3735720"/>
            <a:ext cx="891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тенциал, установившийся в условиях равновесия, называ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вновесным электродным потенциа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6"/>
          <p:cNvSpPr/>
          <p:nvPr/>
        </p:nvSpPr>
        <p:spPr>
          <a:xfrm>
            <a:off x="304920" y="4876920"/>
            <a:ext cx="8305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ктродный потенциал является постоянной величиной при данной температуре. Если пластинка металла опущена в раствор его соли с активностью ионов металла, равной единице (а=1), то, возникающий электродный потенциал называ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ндартным электродным потенциа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02480" y="672840"/>
            <a:ext cx="256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равнение Нернс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"/>
              <p:cNvSpPr txBox="1"/>
              <p:nvPr/>
            </p:nvSpPr>
            <p:spPr>
              <a:xfrm>
                <a:off x="3048120" y="380880"/>
                <a:ext cx="44956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Rectangle 3"/>
          <p:cNvSpPr/>
          <p:nvPr/>
        </p:nvSpPr>
        <p:spPr>
          <a:xfrm flipV="1" rot="10800000">
            <a:off x="457200" y="1657080"/>
            <a:ext cx="64771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  Е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стандартный электродный потенциал (в)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газовая постоянна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 – абсолютная температур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- степень окисления иона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число Фарадея – 96500 кулон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– активность ионов в раство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04920" y="3891240"/>
            <a:ext cx="44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разбавленных растворов или растворов слабых электролитов (где с = а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5029200" y="3809880"/>
                <a:ext cx="35053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9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Rectangle 6"/>
          <p:cNvSpPr/>
          <p:nvPr/>
        </p:nvSpPr>
        <p:spPr>
          <a:xfrm>
            <a:off x="3367440" y="5486760"/>
            <a:ext cx="549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 – концентрация ионов в растворе (моль/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3"/>
          <p:cNvSpPr/>
          <p:nvPr/>
        </p:nvSpPr>
        <p:spPr>
          <a:xfrm>
            <a:off x="5259240" y="685800"/>
            <a:ext cx="32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альванический элемен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4267440" cy="27432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762120" y="3408120"/>
            <a:ext cx="7696080" cy="27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анодны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u</a:t>
            </a:r>
            <a:r>
              <a:rPr b="0" i="1" lang="ru-RU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2+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+ 2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</a:t>
            </a:r>
            <a:r>
              <a:rPr b="0" i="1" lang="ru-RU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→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u</a:t>
            </a:r>
            <a:r>
              <a:rPr b="0" i="1" lang="ru-RU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катодны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 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в молекулярной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 + Cu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Zn 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+ Cu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304920" y="1211040"/>
            <a:ext cx="8458200" cy="44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ара с большим стандартным редокс-потенциалом игрет роль окислителя по отношению к паре с меньшим потенциа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движущая сила определяется как разность электродных потенциалов, устанавливающихся на границе каждого из этих металлов с раствор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ее активный металл посылает в  раствор положительно заряженные гидратированные ионы, а сам заряжается отрицательно. К менее активному металлу подходят электроны, восстанавливающие  катионы или молеку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акция протекает самопроизвольно в прямом направлении, если ее ЭДС положительна, т.е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ДС = Е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окис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Е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восс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&gt; 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Если ЭДС окажется отрицательной, то реакция идет в обратном направл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rora</cp:lastModifiedBy>
  <dcterms:modified xsi:type="dcterms:W3CDTF">2009-05-17T19:48:3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